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2E97-C8E2-4D0E-B631-0BCDD92318C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4FEC-C493-467E-895D-96194694702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5412-1D65-420C-B404-2C8205A14A0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F1F9-21E2-4802-9A4C-712581AD282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1D3A-4DDC-49AC-AB1B-68E6630DB7D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A85F-BFFC-45A3-96F0-9AC7C9B2C84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1103-6B0D-4DC2-B40C-609871BBE19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2BFF-6A6D-41B6-A44B-1FCCD2F0130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7B3A-E4D0-43ED-8E94-5570BCE98A0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F238-4481-4923-8AFF-5E57650E29B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51AD-BB6C-4059-8157-61FD30660DA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FE29-80FE-4C24-9910-1B34E796F62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6B7B-7C46-419F-B3ED-D81DA1E53F5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724D-CAE3-42D0-AA48-9A0A53BF22E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BA7C7-27D9-4221-9B33-CE71C180E3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4883-8E10-45E8-BF66-F8B21BCF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E42B-1351-4D85-9F2C-566232C3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AD5D6-1E29-4B3A-87C8-00023039AF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419E7-F6AE-4671-AF64-CE121FA9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AA746-B8BC-4CF0-8760-30566C45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1FFD-41F1-4503-951E-A9B1DF67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24F43-9C29-4829-B477-8DEBA42B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B329-813A-4CA0-84C6-AE37BF28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CE01-37CE-4FD1-876B-D2A905B1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C67E7-6518-4888-AE9D-464172AB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A89EC-A15B-4A9C-96F7-12155C88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1F80-4D21-44EF-AB7C-186BD46327C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4284720" y="6524640"/>
            <a:ext cx="122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C272-F8E1-4442-83AB-DB70CCB1D4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659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4356000" y="6524640"/>
            <a:ext cx="1201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E900-68E5-4AB3-B979-027793DF18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88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于胃肠道内尚未吸收的毒物，应尽早给予催吐、洗胃、灌肠、导泻或活性炭吸附等方法清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4572000" y="6524640"/>
            <a:ext cx="115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7ADD-0D73-4C23-981A-B74CECEE7A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4427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F752-4DE0-45AC-A2D8-586B99751C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F73E-8E63-4D83-ADE1-57B7412D57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（美蓝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471636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6A26-0702-440D-9B00-A8236FCF58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4356000" y="6524640"/>
            <a:ext cx="1079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CD77-9C30-4317-9366-FFCD4FF237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安定、利眠宁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4572000" y="6524640"/>
            <a:ext cx="1008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AAD9-56C6-4E68-A0C9-72AE160837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E24B-2C8A-4447-80F8-C614877FBAE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0048-85B6-479F-9CFB-577F123BF6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6760" y="1412640"/>
            <a:ext cx="86108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0E94-6A01-4C7C-9FF1-4763C61FE1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499760"/>
            <a:ext cx="871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2648-E64E-413A-8075-A844F2B003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1499760"/>
            <a:ext cx="8788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时内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322D-BA01-4E63-A2D0-D67F8C9972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499760"/>
            <a:ext cx="8967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99C8-87D6-4B24-BC7B-257342C10F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9D12-7C0E-4216-8688-F43A40F862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线形标注 2 2"/>
          <p:cNvSpPr/>
          <p:nvPr/>
        </p:nvSpPr>
        <p:spPr>
          <a:xfrm>
            <a:off x="3692520" y="1165320"/>
            <a:ext cx="5343480" cy="7570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8361"/>
              <a:gd name="adj6" fmla="val -2556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暂时保护胃黏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线形标注 1 3"/>
          <p:cNvSpPr/>
          <p:nvPr/>
        </p:nvSpPr>
        <p:spPr>
          <a:xfrm>
            <a:off x="3692520" y="1995480"/>
            <a:ext cx="5343480" cy="576360"/>
          </a:xfrm>
          <a:prstGeom prst="borderCallout1">
            <a:avLst>
              <a:gd name="adj1" fmla="val 18750"/>
              <a:gd name="adj2" fmla="val -8333"/>
              <a:gd name="adj3" fmla="val 102564"/>
              <a:gd name="adj4" fmla="val -25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线形标注 1 4"/>
          <p:cNvSpPr/>
          <p:nvPr/>
        </p:nvSpPr>
        <p:spPr>
          <a:xfrm>
            <a:off x="3692520" y="2690640"/>
            <a:ext cx="5343480" cy="1025640"/>
          </a:xfrm>
          <a:prstGeom prst="borderCallout1">
            <a:avLst>
              <a:gd name="adj1" fmla="val 18750"/>
              <a:gd name="adj2" fmla="val -8333"/>
              <a:gd name="adj3" fmla="val 47722"/>
              <a:gd name="adj4" fmla="val -263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线形标注 1 5"/>
          <p:cNvSpPr/>
          <p:nvPr/>
        </p:nvSpPr>
        <p:spPr>
          <a:xfrm>
            <a:off x="3708360" y="3860640"/>
            <a:ext cx="5327640" cy="576360"/>
          </a:xfrm>
          <a:prstGeom prst="borderCallout1">
            <a:avLst>
              <a:gd name="adj1" fmla="val 18750"/>
              <a:gd name="adj2" fmla="val -8333"/>
              <a:gd name="adj3" fmla="val -20291"/>
              <a:gd name="adj4" fmla="val -2573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线形标注 1 6"/>
          <p:cNvSpPr/>
          <p:nvPr/>
        </p:nvSpPr>
        <p:spPr>
          <a:xfrm>
            <a:off x="3708360" y="4653000"/>
            <a:ext cx="5327640" cy="720720"/>
          </a:xfrm>
          <a:prstGeom prst="borderCallout1">
            <a:avLst>
              <a:gd name="adj1" fmla="val 18750"/>
              <a:gd name="adj2" fmla="val -8333"/>
              <a:gd name="adj3" fmla="val -56208"/>
              <a:gd name="adj4" fmla="val -2680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线形标注 1 7"/>
          <p:cNvSpPr/>
          <p:nvPr/>
        </p:nvSpPr>
        <p:spPr>
          <a:xfrm>
            <a:off x="3708360" y="5567400"/>
            <a:ext cx="5316480" cy="828720"/>
          </a:xfrm>
          <a:prstGeom prst="borderCallout1">
            <a:avLst>
              <a:gd name="adj1" fmla="val 18750"/>
              <a:gd name="adj2" fmla="val -8333"/>
              <a:gd name="adj3" fmla="val -79078"/>
              <a:gd name="adj4" fmla="val -3134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5BA9-2407-4CB5-8090-5CB1D22F1ED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468360" y="907920"/>
            <a:ext cx="4798800" cy="720360"/>
            <a:chOff x="468360" y="907920"/>
            <a:chExt cx="4798800" cy="720360"/>
          </a:xfrm>
        </p:grpSpPr>
        <p:grpSp>
          <p:nvGrpSpPr>
            <p:cNvPr id="210" name="Group 5"/>
            <p:cNvGrpSpPr/>
            <p:nvPr/>
          </p:nvGrpSpPr>
          <p:grpSpPr>
            <a:xfrm>
              <a:off x="468360" y="907920"/>
              <a:ext cx="761400" cy="720360"/>
              <a:chOff x="468360" y="907920"/>
              <a:chExt cx="761400" cy="7203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74480" y="920160"/>
                <a:ext cx="755280" cy="708120"/>
              </a:xfrm>
              <a:prstGeom prst="hexagon">
                <a:avLst>
                  <a:gd name="adj" fmla="val 2666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468360" y="907920"/>
                <a:ext cx="755640" cy="708120"/>
              </a:xfrm>
              <a:prstGeom prst="hexagon">
                <a:avLst>
                  <a:gd name="adj" fmla="val 2667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68360" y="950400"/>
                <a:ext cx="720720" cy="606240"/>
              </a:xfrm>
              <a:prstGeom prst="hexagon">
                <a:avLst>
                  <a:gd name="adj" fmla="val 2666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476360" y="1052280"/>
              <a:ext cx="379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52680" y="96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468360" y="1700280"/>
            <a:ext cx="4462200" cy="664920"/>
            <a:chOff x="468360" y="1700280"/>
            <a:chExt cx="4462200" cy="664920"/>
          </a:xfrm>
        </p:grpSpPr>
        <p:grpSp>
          <p:nvGrpSpPr>
            <p:cNvPr id="218" name="Group 13"/>
            <p:cNvGrpSpPr/>
            <p:nvPr/>
          </p:nvGrpSpPr>
          <p:grpSpPr>
            <a:xfrm>
              <a:off x="468360" y="1700280"/>
              <a:ext cx="811440" cy="664920"/>
              <a:chOff x="468360" y="1700280"/>
              <a:chExt cx="811440" cy="66492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75200" y="171144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468360" y="170028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515880" y="1739880"/>
                <a:ext cx="705960" cy="574560"/>
              </a:xfrm>
              <a:prstGeom prst="hexagon">
                <a:avLst>
                  <a:gd name="adj" fmla="val 3073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81800" y="2276280"/>
              <a:ext cx="38487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2005920" y="177156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76080" y="1750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468360" y="2492280"/>
            <a:ext cx="4537080" cy="665280"/>
            <a:chOff x="468360" y="2492280"/>
            <a:chExt cx="453708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468360" y="2492280"/>
              <a:ext cx="761400" cy="665280"/>
              <a:chOff x="468360" y="2492280"/>
              <a:chExt cx="76140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74480" y="2503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468360" y="2492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512640" y="2531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44360" y="3068640"/>
              <a:ext cx="396108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2150280" y="256392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652680" y="254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468360" y="3284640"/>
            <a:ext cx="4534920" cy="664920"/>
            <a:chOff x="468360" y="3284640"/>
            <a:chExt cx="4534920" cy="664920"/>
          </a:xfrm>
        </p:grpSpPr>
        <p:grpSp>
          <p:nvGrpSpPr>
            <p:cNvPr id="234" name="Group 29"/>
            <p:cNvGrpSpPr/>
            <p:nvPr/>
          </p:nvGrpSpPr>
          <p:grpSpPr>
            <a:xfrm>
              <a:off x="468360" y="3284640"/>
              <a:ext cx="810720" cy="664920"/>
              <a:chOff x="468360" y="3284640"/>
              <a:chExt cx="810720" cy="66492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75200" y="329580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468360" y="328464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515880" y="3324240"/>
                <a:ext cx="672480" cy="574560"/>
              </a:xfrm>
              <a:prstGeom prst="hexagon">
                <a:avLst>
                  <a:gd name="adj" fmla="val 3071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1081440" y="3860640"/>
              <a:ext cx="39218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581840" y="3335040"/>
              <a:ext cx="1954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675720" y="333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468360" y="4076640"/>
            <a:ext cx="4534920" cy="665280"/>
            <a:chOff x="468360" y="4076640"/>
            <a:chExt cx="453492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468360" y="4076640"/>
              <a:ext cx="798120" cy="665280"/>
              <a:chOff x="468360" y="4076640"/>
              <a:chExt cx="79812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74840" y="4087800"/>
                <a:ext cx="791640" cy="654120"/>
              </a:xfrm>
              <a:prstGeom prst="hexagon">
                <a:avLst>
                  <a:gd name="adj" fmla="val 302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468360" y="4076640"/>
                <a:ext cx="792000" cy="654120"/>
              </a:xfrm>
              <a:prstGeom prst="hexagon">
                <a:avLst>
                  <a:gd name="adj" fmla="val 3027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514080" y="4116240"/>
                <a:ext cx="694800" cy="574920"/>
              </a:xfrm>
              <a:prstGeom prst="hexagon">
                <a:avLst>
                  <a:gd name="adj" fmla="val 3022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1072080" y="4653000"/>
              <a:ext cx="39312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564920" y="4148280"/>
              <a:ext cx="1926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669960" y="412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468360" y="4869000"/>
            <a:ext cx="4608360" cy="664920"/>
            <a:chOff x="468360" y="4869000"/>
            <a:chExt cx="4608360" cy="664920"/>
          </a:xfrm>
        </p:grpSpPr>
        <p:grpSp>
          <p:nvGrpSpPr>
            <p:cNvPr id="250" name="Group 45"/>
            <p:cNvGrpSpPr/>
            <p:nvPr/>
          </p:nvGrpSpPr>
          <p:grpSpPr>
            <a:xfrm>
              <a:off x="468360" y="4869000"/>
              <a:ext cx="761400" cy="664920"/>
              <a:chOff x="468360" y="4869000"/>
              <a:chExt cx="761400" cy="66492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74480" y="48801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468360" y="48690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512640" y="49086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4360" y="544500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2255760" y="491940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52680" y="49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矩形 55"/>
          <p:cNvSpPr/>
          <p:nvPr/>
        </p:nvSpPr>
        <p:spPr>
          <a:xfrm>
            <a:off x="1403280" y="328464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6"/>
          <p:cNvSpPr/>
          <p:nvPr/>
        </p:nvSpPr>
        <p:spPr>
          <a:xfrm>
            <a:off x="1403280" y="407664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44"/>
          <p:cNvGrpSpPr/>
          <p:nvPr/>
        </p:nvGrpSpPr>
        <p:grpSpPr>
          <a:xfrm>
            <a:off x="468360" y="5732640"/>
            <a:ext cx="4608360" cy="666000"/>
            <a:chOff x="468360" y="5732640"/>
            <a:chExt cx="4608360" cy="666000"/>
          </a:xfrm>
        </p:grpSpPr>
        <p:grpSp>
          <p:nvGrpSpPr>
            <p:cNvPr id="260" name="Group 45"/>
            <p:cNvGrpSpPr/>
            <p:nvPr/>
          </p:nvGrpSpPr>
          <p:grpSpPr>
            <a:xfrm>
              <a:off x="468360" y="5732640"/>
              <a:ext cx="761400" cy="666000"/>
              <a:chOff x="468360" y="5732640"/>
              <a:chExt cx="761400" cy="666000"/>
            </a:xfrm>
          </p:grpSpPr>
          <p:sp>
            <p:nvSpPr>
              <p:cNvPr id="261" name="AutoShape 46"/>
              <p:cNvSpPr/>
              <p:nvPr/>
            </p:nvSpPr>
            <p:spPr>
              <a:xfrm>
                <a:off x="474480" y="5743800"/>
                <a:ext cx="755280" cy="654840"/>
              </a:xfrm>
              <a:prstGeom prst="hexagon">
                <a:avLst>
                  <a:gd name="adj" fmla="val 2883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47"/>
              <p:cNvSpPr/>
              <p:nvPr/>
            </p:nvSpPr>
            <p:spPr>
              <a:xfrm>
                <a:off x="468360" y="5732640"/>
                <a:ext cx="755640" cy="654840"/>
              </a:xfrm>
              <a:prstGeom prst="hexagon">
                <a:avLst>
                  <a:gd name="adj" fmla="val 2884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48"/>
              <p:cNvSpPr/>
              <p:nvPr/>
            </p:nvSpPr>
            <p:spPr>
              <a:xfrm>
                <a:off x="512640" y="5771880"/>
                <a:ext cx="663480" cy="576000"/>
              </a:xfrm>
              <a:prstGeom prst="hexagon">
                <a:avLst>
                  <a:gd name="adj" fmla="val 2881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49"/>
            <p:cNvSpPr/>
            <p:nvPr/>
          </p:nvSpPr>
          <p:spPr>
            <a:xfrm>
              <a:off x="1044360" y="631008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50"/>
            <p:cNvSpPr/>
            <p:nvPr/>
          </p:nvSpPr>
          <p:spPr>
            <a:xfrm>
              <a:off x="2097720" y="5783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51"/>
            <p:cNvSpPr/>
            <p:nvPr/>
          </p:nvSpPr>
          <p:spPr>
            <a:xfrm>
              <a:off x="653400" y="578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710A-CB86-4B35-A090-1189CEA1C7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圆角矩形 4"/>
          <p:cNvSpPr/>
          <p:nvPr/>
        </p:nvSpPr>
        <p:spPr>
          <a:xfrm>
            <a:off x="324000" y="2349360"/>
            <a:ext cx="8496000" cy="352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案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-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小时急诊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紫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催吐和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和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0678-C21E-4D7F-9B66-F49A8ACE59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4000" y="90792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体液不足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严重呕吐、腹泻导致体液丢失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呼吸道腺体分泌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有机磷毒物累及中枢神经系统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对有机磷杀虫药毒性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肺水肿、呼吸衰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生命体征稳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密切观察病情和生命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4000" y="98100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低效性呼吸型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百草枯作用于呼吸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肾功能障碍、消化道出血、肝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百草枯中毒及相关急救常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清除胃肠道中毒物的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一氧化碳中毒进行高压氧治疗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4A4F-AA89-4446-B06B-4FA8D8ACA3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神经、呼吸、消化等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灭鼠剂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线形标注 2 4"/>
          <p:cNvSpPr/>
          <p:nvPr/>
        </p:nvSpPr>
        <p:spPr>
          <a:xfrm>
            <a:off x="4356000" y="2133720"/>
            <a:ext cx="4608720" cy="10792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74157"/>
              <a:gd name="adj6" fmla="val -2003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线形标注 2 5"/>
          <p:cNvSpPr/>
          <p:nvPr/>
        </p:nvSpPr>
        <p:spPr>
          <a:xfrm>
            <a:off x="4284720" y="3500280"/>
            <a:ext cx="4648320" cy="1150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0097"/>
              <a:gd name="adj6" fmla="val -2310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线形标注 2 6"/>
          <p:cNvSpPr/>
          <p:nvPr/>
        </p:nvSpPr>
        <p:spPr>
          <a:xfrm>
            <a:off x="4211640" y="4869000"/>
            <a:ext cx="4753080" cy="1008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46384"/>
              <a:gd name="adj6" fmla="val -234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碳氧血红蛋白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大脑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心输出量减少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心肌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有中毒后迟发性脑病的危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酒精，学名乙醇，是日常生活中各类酒饮料的主要成分，也可用作医用消毒剂、工业原料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中枢神经系统损害、代谢异常、心脏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有机磷杀虫药中毒时，遵医嘱应用胆碱酯酶复能剂的用药观察与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B3AE-29EF-43B3-A884-A25EAA6EE7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酒精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酒精对人体毒性的认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休克，窒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密切观察病情变化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镇静催眠药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呼吸抑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4067280" y="6524640"/>
            <a:ext cx="1131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8A51-A081-4752-AE60-EC0FC35A1F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785600"/>
            <a:ext cx="829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接触眼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吸入强酸、强碱烟雾后致使气道黏膜充血、水肿及浆液性分泌物过多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皮肤完整性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酸、强碱刺激皮肤黏膜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自我形象紊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腐蚀性毒物造成皮肤黏膜损害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焦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担心疾病预后、费用昂贵等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强酸、强碱急救常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线形标注 1 4"/>
          <p:cNvSpPr/>
          <p:nvPr/>
        </p:nvSpPr>
        <p:spPr>
          <a:xfrm>
            <a:off x="3419640" y="1125360"/>
            <a:ext cx="5545080" cy="3672000"/>
          </a:xfrm>
          <a:prstGeom prst="borderCallout1">
            <a:avLst>
              <a:gd name="adj1" fmla="val 18750"/>
              <a:gd name="adj2" fmla="val -8333"/>
              <a:gd name="adj3" fmla="val 46750"/>
              <a:gd name="adj4" fmla="val -1643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线形标注 1 5"/>
          <p:cNvSpPr/>
          <p:nvPr/>
        </p:nvSpPr>
        <p:spPr>
          <a:xfrm>
            <a:off x="2987640" y="2205000"/>
            <a:ext cx="6156360" cy="3960720"/>
          </a:xfrm>
          <a:prstGeom prst="borderCallout1">
            <a:avLst>
              <a:gd name="adj1" fmla="val 18750"/>
              <a:gd name="adj2" fmla="val -8333"/>
              <a:gd name="adj3" fmla="val 34902"/>
              <a:gd name="adj4" fmla="val -1531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4284720" y="6524640"/>
            <a:ext cx="122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01F9-23DC-4CD9-A783-C7C149707A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1508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现场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跳呼吸骤停者，立即给予现场心肺复苏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5"/>
          <p:cNvSpPr/>
          <p:nvPr/>
        </p:nvSpPr>
        <p:spPr>
          <a:xfrm>
            <a:off x="4427640" y="6524640"/>
            <a:ext cx="9144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0AB1-3058-4A70-B292-63E7E4E4E62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 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（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6-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9640" y="2133720"/>
          <a:ext cx="7704360" cy="2666880"/>
        </p:xfrm>
        <a:graphic>
          <a:graphicData uri="http://schemas.openxmlformats.org/drawingml/2006/table">
            <a:tbl>
              <a:tblPr/>
              <a:tblGrid>
                <a:gridCol w="3853080"/>
                <a:gridCol w="3851280"/>
              </a:tblGrid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乙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2484360" y="155736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6-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23:25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